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C7DD-82B1-4FA3-A028-8243FE07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BDF2-F29A-4770-B413-9546B2E4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2275-960E-47B2-B112-E513E66E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D25D-9BDC-4BEC-90E5-25EB7FE6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045B-DC33-49DF-9F15-126C2BCA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C4E0-D01F-4B8E-81E7-1EC83785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6A55-9279-4977-A4CC-171C7179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2E94-4940-4527-8E51-F2BFAD3C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9705-23DF-4B9B-B966-A55CEF5A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7856-DEE0-4201-8101-60A01260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6ED8-B179-4440-A2BF-6E6BD9A6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B1B1-8B5C-497F-81B0-F8D60581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D8ED-6BF4-4C00-A620-8C103C7D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CAD0-210B-49E1-A1F5-96F484C5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5CB7-B570-4972-A5E8-3F45407B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51D1-6FAC-4AE4-B7F5-4BEA15DC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E3C8-CC5D-49C2-9420-2ECC6F3D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294B-5BF8-4246-A1A6-B5AC21D1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37D07-9E1A-4D12-9C2E-582716EF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FAE3-DF76-4972-B1AE-E56D265C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77A7-0690-4F48-9A26-3297708C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88C3-A610-4562-B4F9-77C025DE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D244-C62A-4EA0-AF39-84307A28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56AE-843B-4E2D-A0D6-0153A320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2B95-3463-43F0-AD85-68470370C1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751f"/>
                  </a:gs>
                  <a:gs pos="100000">
                    <a:srgbClr val="c3822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751f"/>
                  </a:gs>
                  <a:gs pos="100000">
                    <a:srgbClr val="c382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a1c"/>
                  </a:gs>
                  <a:gs pos="100000">
                    <a:srgbClr val="c382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c382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8223"/>
                  </a:gs>
                  <a:gs pos="100000">
                    <a:srgbClr val="aa711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c38223"/>
                </a:gs>
                <a:gs pos="100000">
                  <a:srgbClr val="a46d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e5314"/>
                </a:gs>
                <a:gs pos="100000">
                  <a:srgbClr val="c382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30e05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83e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130e0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83e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751f"/>
                  </a:gs>
                  <a:gs pos="100000">
                    <a:srgbClr val="c3822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751f"/>
                  </a:gs>
                  <a:gs pos="100000">
                    <a:srgbClr val="c382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a1c"/>
                  </a:gs>
                  <a:gs pos="100000">
                    <a:srgbClr val="c382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c382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8223"/>
                  </a:gs>
                  <a:gs pos="100000">
                    <a:srgbClr val="aa711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c38223"/>
                </a:gs>
                <a:gs pos="100000">
                  <a:srgbClr val="a46d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e5314"/>
                </a:gs>
                <a:gs pos="100000">
                  <a:srgbClr val="c382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30e05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80AA-B5EB-4AB6-8515-29FBB13D3D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130e05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83e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01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How did we know about life in ancient Egypt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radley Hand ITC"/>
              </a:rPr>
              <a:t>From document written on papyrus, from hieroglyphics on stones, from wall paintings on objects found in tomb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06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73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did the people put in a pyramid with a mummy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Food clothes and jewell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78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81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o guarded the tombs of the pharaohs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Soldi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86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89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o was Tutankhamun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He was one of the most famous pharaoh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94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09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did people in ancient Egypt wear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They wore light clothes and sanda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14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17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work did the Egyptians do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Many worked as farmers and helped to build the pyrami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22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25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did the weavers do in ancient Egypt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They made beautiful clothes and sold them to other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30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33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animals did the Egyptians keep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Fish, ducks, geese, goats, sheep, cattle, pigs and hor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38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41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did the Egyptians eat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Fish, meat, eggs, milk, vegetables and frui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46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49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wear the most popular sports for men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Hunting and fis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54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57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ich people were there at rich Egyptians‘ parties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Musicians, singers, dancers, jugglers and acroba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62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82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24000" y="5589720"/>
            <a:ext cx="1582560" cy="981000"/>
            <a:chOff x="324000" y="5589720"/>
            <a:chExt cx="1582560" cy="981000"/>
          </a:xfrm>
        </p:grpSpPr>
        <p:sp>
          <p:nvSpPr>
            <p:cNvPr id="165" name=""/>
            <p:cNvSpPr/>
            <p:nvPr/>
          </p:nvSpPr>
          <p:spPr>
            <a:xfrm>
              <a:off x="324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11280" y="5805720"/>
              <a:ext cx="1008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Answer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77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radley Hand ITC"/>
              </a:rPr>
              <a:t>What happened to a pharaoh when he died?</a:t>
            </a:r>
            <a:endParaRPr b="1" lang="en-US" sz="6000" spc="-1" strike="noStrike">
              <a:solidFill>
                <a:srgbClr val="130e05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radley Hand ITC"/>
              </a:rPr>
              <a:t>Priests put him inside a pyrami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236000" y="5589720"/>
            <a:ext cx="1582560" cy="981000"/>
            <a:chOff x="7236000" y="5589720"/>
            <a:chExt cx="1582560" cy="981000"/>
          </a:xfrm>
        </p:grpSpPr>
        <p:sp>
          <p:nvSpPr>
            <p:cNvPr id="170" name=""/>
            <p:cNvSpPr/>
            <p:nvPr/>
          </p:nvSpPr>
          <p:spPr>
            <a:xfrm>
              <a:off x="7236000" y="5589720"/>
              <a:ext cx="1582560" cy="9810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7621560" y="5805720"/>
              <a:ext cx="79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Bradley Hand ITC"/>
                </a:rPr>
                <a:t>Next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radley Hand ITC"/>
                <a:ea typeface="Bradley Hand ITC"/>
              </a:endParaRPr>
            </a:p>
          </p:txBody>
        </p:sp>
      </p:grpSp>
    </p:spTree>
  </p:cSld>
  <p:transition>
    <p:push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06:34Z</dcterms:created>
  <dc:creator>Franziska</dc:creator>
  <dc:description/>
  <dc:language>en-US</dc:language>
  <cp:lastModifiedBy>Franziska</cp:lastModifiedBy>
  <dcterms:modified xsi:type="dcterms:W3CDTF">2011-04-06T16:47:43Z</dcterms:modified>
  <cp:revision>2</cp:revision>
  <dc:subject/>
  <dc:title>How did we know about life in ancient Egypt?</dc:title>
</cp:coreProperties>
</file>